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A0C-F743-4941-A30D-FBF191F2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3FF-3B4C-4F02-B2BC-37C9BF5E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8A3-AA0B-4E96-A4B1-AF3A7CE2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B44-E41D-4FCC-AAA3-794A73F5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9228-95F8-44C6-82EB-4A866089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382D-A5E7-411E-AFE8-C44CD373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34FA-2C1B-421B-BA2B-65C41707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020C-43DC-41FF-B53B-8031BEDC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6628-E1E5-4E24-96CA-A6802E9E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139A-1640-4B91-ADEA-A882DC39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FE09-51C7-4B07-8FED-6C00B0A0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E09-F198-4F0A-BA49-19ADAAB0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9FEE-B5EA-45BF-9F9B-F83384EB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B186-78FE-48A8-BCEC-4BEB9EF7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36FB-6C7C-4A21-936A-644D89EE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0E92-B4E5-4B14-AC49-5536E826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2423-9CDD-4E6F-BF96-D1FF8C15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D9A3-22CD-4F44-AE36-F5CA49D6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4FF4-5456-4D4D-91F5-B02937D7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E6B32-E8F5-4291-A709-71CD148C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81FA-2309-4E86-B5C3-BD03EBF4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ABE6-D22B-44F0-A9BA-79919F78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15C-F17E-4E5E-8268-55F36DD4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C968-1F2C-4D9A-9DC8-EFDC6746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50D25-4D54-4C5F-94B5-235BFD7D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7078-A67D-4F8E-9A53-278D915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A40A-AEFC-4A96-AB4E-80A760F5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D226-C915-45A8-81F6-97F6A36C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5AE7A-8A1D-4031-BEF9-BB896F15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D5C5-D14D-41AB-B5C0-106ABA5B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5C26-197A-4D54-A8B6-FEAE2B59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CADEA-76FC-475C-AD18-038AB945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AF0B5-0ABD-4691-A2B7-79F3A950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290-DA2B-40D0-9B79-2C0AC21B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1F9CB-84E3-442D-826F-FEBA00F8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71DFD-B7F6-4EDA-8E6F-5404E3A2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411B-A55E-4351-AAEC-EE3F2EF2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BC904-2013-49E5-B2FF-3D298068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463E9-77F2-4791-B2D2-573A44E3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A59BB-9912-413F-B4D6-00D3E30A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EB36-9AE9-41A6-9B02-5E83B0FD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824C2-BF67-4B86-BE97-AB5A0A81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5E8A9-DCB7-4425-BA0B-5D021068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2B5-F7FD-4F49-92F5-5A325413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201-7BF0-4109-BF8C-A4044E71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AB3-0926-43EF-AAF1-88C06B0D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FB1-3CAD-4BA9-BDD5-2E904B03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F47-C5B1-4875-86D3-EAEED4C7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4319-2F23-4E48-9ABA-982FF70247F5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A680-21F6-44BF-BC9B-BF3BA934EBEA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A193-3C74-4364-B5D1-E21F65D77921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D1E8-D50D-4717-A3B7-745443081C50}" type="slidenum">
              <a:rPr b="0" lang="sr-Latn-R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imeri%201%20i%202.nb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58920" y="1795320"/>
            <a:ext cx="662616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0000"/>
                </a:solidFill>
                <a:latin typeface="Arial"/>
              </a:rPr>
              <a:t>Операције са комплексним бројевим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анијела Милутиновић 1011/2011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 u="sng">
                <a:solidFill>
                  <a:srgbClr val="d83e2c"/>
                </a:solidFill>
                <a:uFillTx/>
                <a:latin typeface="Constantia"/>
                <a:hlinkClick r:id="rId1"/>
              </a:rPr>
              <a:t>Уводни део час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Content Placeholder 2" descr=""/>
          <p:cNvPicPr/>
          <p:nvPr/>
        </p:nvPicPr>
        <p:blipFill>
          <a:blip r:embed="rId2"/>
          <a:stretch/>
        </p:blipFill>
        <p:spPr>
          <a:xfrm>
            <a:off x="1414440" y="2077920"/>
            <a:ext cx="624204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0000"/>
                </a:solidFill>
                <a:latin typeface="Constantia"/>
              </a:rPr>
              <a:t>Централни део час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финишемо операције са комплексним бројевим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водимо примере за сваку од тих операциј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Заједно са ученицима уочавамо законитости које важе за структуру комплексних бројев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Операције са комплексним бројевим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Content Placeholder 2" descr=""/>
          <p:cNvPicPr/>
          <p:nvPr/>
        </p:nvPicPr>
        <p:blipFill>
          <a:blip r:embed="rId1"/>
          <a:stretch/>
        </p:blipFill>
        <p:spPr>
          <a:xfrm>
            <a:off x="1414440" y="2077920"/>
            <a:ext cx="624204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0000"/>
                </a:solidFill>
                <a:latin typeface="Constantia"/>
              </a:rPr>
              <a:t>Операције са комплексним бројевим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Content Placeholder 2" descr=""/>
          <p:cNvPicPr/>
          <p:nvPr/>
        </p:nvPicPr>
        <p:blipFill>
          <a:blip r:embed="rId1"/>
          <a:stretch/>
        </p:blipFill>
        <p:spPr>
          <a:xfrm>
            <a:off x="1414440" y="2077920"/>
            <a:ext cx="624204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0000"/>
                </a:solidFill>
                <a:latin typeface="Arial"/>
              </a:rPr>
              <a:t>Задаци за рад на час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Content Placeholder 2" descr=""/>
          <p:cNvPicPr/>
          <p:nvPr/>
        </p:nvPicPr>
        <p:blipFill>
          <a:blip r:embed="rId1"/>
          <a:stretch/>
        </p:blipFill>
        <p:spPr>
          <a:xfrm>
            <a:off x="1371600" y="2077920"/>
            <a:ext cx="628488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0000"/>
                </a:solidFill>
                <a:latin typeface="Arial"/>
              </a:rPr>
              <a:t>Задаци за вежб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Content Placeholder 2" descr=""/>
          <p:cNvPicPr/>
          <p:nvPr/>
        </p:nvPicPr>
        <p:blipFill>
          <a:blip r:embed="rId1"/>
          <a:stretch/>
        </p:blipFill>
        <p:spPr>
          <a:xfrm>
            <a:off x="1371600" y="2077920"/>
            <a:ext cx="6284880" cy="364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01:29:17Z</dcterms:created>
  <dc:creator>DacaMajaJoka</dc:creator>
  <dc:description/>
  <dc:language>en-US</dc:language>
  <cp:lastModifiedBy>DacaMajaJoka</cp:lastModifiedBy>
  <dcterms:modified xsi:type="dcterms:W3CDTF">2012-01-21T14:38:41Z</dcterms:modified>
  <cp:revision>15</cp:revision>
  <dc:subject/>
  <dc:title>Операције са комплексним бројевима</dc:title>
</cp:coreProperties>
</file>